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D5B-6F99-4844-BA1B-A1DD3069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28C-322F-4783-96A4-1F0CA3B3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C23-F3CB-487F-9C3A-B5B1B41A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5AE-5721-4D00-B25D-34F35C53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9C7-5199-44A8-8DFF-EBAFC1CF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B62-0580-4A31-8CEF-1E7F14B5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ECF-1CDA-49BF-B690-52E08FE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3F0-413F-4226-9E19-3914BFF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90A-9156-4320-AB7E-458CA928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A10-E6D9-49FF-8CA5-DD87049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5D8-5A68-4573-AFA6-B8C46C2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904-F782-4039-94C3-DBB3FCD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0CAF-BE63-44E0-923A-0710B85F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ободан Јанкови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миологија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рис налик на бели лук имају арсен и фосфор; цијаниди миришу као горки бадем; мирис трулежи се јавља после тровања тешким метал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миологија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хикардију изазивај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холинергиц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ициклични антидепресив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ка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јани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адикардију изазивај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диотонички гликозид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блокатор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локатори калцијумских ка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миологија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јанозу централног типа изазивају СО и супстанце које хемоглобин претварају у метхемоглобин (нитрити, на пример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ужичаста боја коже прати тровање цијанидима који блокирајући ткивно дисање онемогућавају искоришћавање О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 оксихемогл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миологија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тензију изазивају опиоиди, барбитурати, блокатори калцијумових канала, неуролептици, антидепрес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ензију изазивају кокаин, амфетамин, алкалоиди ражене главнице, нафаз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тидо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1523880"/>
          <a:ext cx="3505320" cy="4587840"/>
        </p:xfrm>
        <a:graphic>
          <a:graphicData uri="http://schemas.openxmlformats.org/drawingml/2006/table">
            <a:tbl>
              <a:tblPr/>
              <a:tblGrid>
                <a:gridCol w="1828800"/>
                <a:gridCol w="1676520"/>
              </a:tblGrid>
              <a:tr h="270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диазеп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умазен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блокат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ро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каг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а, олово, арс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ркап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ои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к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фосфорни отр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ро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лидокс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ални антикоагулан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тамин К, фитоменади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цетам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ацетил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сте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н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мепиз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гок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б фрагм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елиминације о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сирана диур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Овакав ефекат постиже се применом снажних диуретика Хенлеове петље, посебно фуросемида, уз обилну инфузију физиолошког раствора како би се одржао проток крви кроз бубре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датно повећање излучивања отро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лабих кисел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е се постићи применом базе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тријум бикарбон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сирана алкална диур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друге стране, ако је отров слаба база, урин треба закиселити применом амонијум-хлорида. То ј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сирана кисела диур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одијализом се могу отклонити отрови мање молекулске тежин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 малим волуменом 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емодијализа нарочито има ефекта код тровања литијумом, салицилатима, прокаинамидом, етил и метил-алкохолом и етилен-глико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емоперфу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упак пропуштања крви болесника кроз цевчице обложене активним угљем. На честице овог угља апсорбују се отрови који имају велике, поларне молек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перфузија је метода избора за одстрањивање отрова при тровању метилксантинима (теофилин, кофеин), барбитуратима (фенобарбитоном), фенитоином, карбамазепином и салицилат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штећење ткива отров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able 3" descr=""/>
          <p:cNvPicPr/>
          <p:nvPr/>
        </p:nvPicPr>
        <p:blipFill>
          <a:blip r:embed="rId1"/>
          <a:stretch/>
        </p:blipFill>
        <p:spPr>
          <a:xfrm>
            <a:off x="1298520" y="1743120"/>
            <a:ext cx="57722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исоко-ефикасна течна хроматографија (ХПЛЦ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развијена крајем шездесетих и почетком седамдесетих година 20.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ност над гасном хроматографијом: супстанце које се мере не морају да буду испарљ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ицијалне мере код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лечењу отроване особе огроман (често и пресудни) значај има иницијална терапија, која се често мора предузети на месту тровања или у првој здравственој устан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ви поступак после сусрета са отрованим није постављање тачне дијагнозе, тј. идентификација врсте отр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мах по суочавању са отрованим треба предуз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ште, неспецифичне мере које важе за било које тров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игурати проходност дисајних путе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збедити дисање и рад срца (масажом срца, вештачким дисање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збедити венску лини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сти уринарни катетер ради праћења диурез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авно, ако је болесник отрован гасом или паром, лечење се започиње тек пошто се отровани изнесе из просторије у којој се налази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ко се изво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бризгава се мала количина течног узорка у течност која се креће под притиском (зове се мобилна фаза) кроз цевчицу испуњену честицама стационарне фа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двајање супстанци из узорка зависи од различитог времена задржавања сваке компоненте у цевч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здвајање супстан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ко се нека супстанца задржава у колони зависи од њеног кретања између мобилне и стационарне ф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тање супстанци између стационарне и мобилне фазе зависи од интеракција супстанци са фа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разлику од гасне хроматографије, промене у саставу мобилне фазе имају огроман утицај на раздвајање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тенционо вр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што свака супстанца различито “путује” кроз колону, време после кога се појави на изласку из колоне је карактеристично баш за ту супстанцу, тј. свака супстанца има специфично ретенционо вр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тенционо време је време које протекне између ињекције и дет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те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ктор је справа која открива присуство супстанце различите од мобилне фазе, и то откриће претвара у електрични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потребе квалитативне анализе узорка, онај који мери се ослања на упоређење ретенционог времена познатих супстанци са ретенционим временима супстанци које се налазе у узорку кога мери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ана анализа уз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ПЛЦ је најефикаснији када спроводимо циљану анализу узорка, тј. када знамо која се супстанца налази у узорку, јер тада можемо да употребимо стандард (познату супстанцу у чистом облику) за одређивање ретенционог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не знамо шта се налази у узорку, онда квалитативну идентификацију морамо радити течном хроматографијом – масеном спектрофотометриј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ени спектар сваког од шиљака из хроматограма се упоређује са спектрима из посебних база података, и тако врши идентификација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ређ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ставни делови ХПЛЦ-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зервоар мобилне ф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мпа која убризгава мобилну ф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о за убризгавање 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лона (цевч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тектор, повезан са компју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ум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мпа ствара притисак и до 2.3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 притисак је потребан да би мобилна фаза могла да прође кроз густо спаковане честице кол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јчешћа при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антитативна и квалитативна анализа аминокиселина, нуклеинских киселина и протеина у хуманим узор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ење концентрације лекова, метаболита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ење концентрације пест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ње концентрације супстанци у узорцима из спољашње с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чишћавање супстанци из меша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гранич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валитативна анализа је ограничена, сем ако ХПЛЦ није повезан са масеном спектрометр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золуција је ограничена код веома комплексних узо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плементарне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на хроматографија има бољу резолуцију, али само за испарљив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критична течна хроматографија може да мери испарљиве, неиспарљиве и термолабилн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пиларна електрофореза даје боље резул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ка хроматографија може да мери јонизоване супстанце, као и капиларна електрофо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чавање апсорпције о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је отров проливен по кожи и оделу, онда треба одећу одмах скинути а кожу опрати водом и сапу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је отров прогутан (што је најчешћи случај), треба или изазвати повраћање, или испрати желуда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а поступка имају највише ефекта ако се предузму у року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едног ча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 уношења отрова, а вреди их спрове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 4 ча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 уношења отрова (до 6 часова код опиоида и антихолинергика, а до 12 часова код салицилата, трицикличних антидепресива и аминофи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азивање повраћ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аћање се може изазвати само ако је болесник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 није отрова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устичним средстви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фтом и њеним дериват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овима који изазивају конв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руп од ипекаку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ирање желу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ђење што шире назогастричне сонде у желудац, а затим наизменичним уношењем и елиминацијом топле воде кроз со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упак се понавља све док вода која се враћа из желуца не постане потпуно бис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о је болесник без свести, испирање желуца се може вршити тек пошто су дисајни путеви претходно заштићени увођењем ендотрахеалног тубуса са каф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нтраиндикације за испирање желуц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 болесника отровани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устичним средств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фтом и нафтним дерива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конвулзивним отр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и уга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отклањања отрова из желуца болеснику треба дати активни угаљ (1 г/кг телесне тежине) размућен у води да га прогута или, ако је пласирана сонда, суспензија угља се улије кроз њ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акс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би се елиминација отрова из дигестивног тракта додатно убрзала, болеснику треба дати лаксан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ову сврху највише се користе осмотски лаксанси (70% сорбитол 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- горка с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 лаксанс треба дати доста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миологија тров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озу могу изазвати антихолинестеразе и опиои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дријазу изазивају антихолинергици, неуролептици и трициклични антиде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26:38Z</dcterms:created>
  <dc:creator>user1</dc:creator>
  <dc:description/>
  <dc:language>en-US</dc:language>
  <cp:lastModifiedBy>Slobodan Jankovic</cp:lastModifiedBy>
  <dcterms:modified xsi:type="dcterms:W3CDTF">2013-01-26T14:28:30Z</dcterms:modified>
  <cp:revision>99</cp:revision>
  <dc:subject/>
  <dc:title>Slide 1</dc:title>
</cp:coreProperties>
</file>